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grr.wav" ContentType="audio/x-wav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BB3-DC70-4111-9AED-6BFC44C6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CFB-F3EA-404E-B1C8-208C4679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734-A7DA-4D66-8877-3D8701DC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A09-3CB0-4A8D-9D37-19A8CCF9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263-5F0A-4337-AE0F-349AB7D9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122-15D0-42E1-8F77-BE70344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890-E575-4E0F-9D84-8CB48A2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3D4-CAE6-4CDB-9ED4-32DA2F8F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876-8081-4FFA-A262-C7084CF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9B7-A171-4F13-910A-2EE3D3F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9AD-DD6A-4501-ABB2-9928B8A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552-D346-445E-8642-123F3D8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5393-89EC-40AF-8904-BFEDA31AA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gofliks.150m.com/test%2520flying%2520side%2520stick%2520man.gif&amp;imgrefurl=http://jumpspin.7.forumer.com/viewtopic.php%3Ft%3D17&amp;usg=__9ChXnLlZpoRiXSu0vmu9pMWU_Io=&amp;h=340&amp;w=454&amp;sz=5&amp;hl=en&amp;start=3&amp;tbnid=eh0-HPbUmVYqgM:&amp;tbnh=96&amp;tbnw=128&amp;prev=/images%3Fq%3Dstick%2Bma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egofliks.150m.com/test%2520flying%2520side%2520stick%2520man.gif&amp;imgrefurl=http://jumpspin.7.forumer.com/viewtopic.php%3Ft%3D17&amp;usg=__9ChXnLlZpoRiXSu0vmu9pMWU_Io=&amp;h=340&amp;w=454&amp;sz=5&amp;hl=en&amp;start=3&amp;tbnid=eh0-HPbUmVYqgM:&amp;tbnh=96&amp;tbnw=128&amp;prev=/images%3Fq%3Dstick%2Bman%26gbv%3D2%26hl%3Den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gofliks.150m.com/test%2520flying%2520side%2520stick%2520man.gif&amp;imgrefurl=http://jumpspin.7.forumer.com/viewtopic.php%3Ft%3D17&amp;usg=__9ChXnLlZpoRiXSu0vmu9pMWU_Io=&amp;h=340&amp;w=454&amp;sz=5&amp;hl=en&amp;start=3&amp;tbnid=eh0-HPbUmVYqgM:&amp;tbnh=96&amp;tbnw=128&amp;prev=/images%3Fq%3Dstick%2Bma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audio" Target="../media/grr.wav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1620720"/>
            <a:ext cx="84484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tools are available to us to solve triang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3080" y="4195800"/>
            <a:ext cx="2377800" cy="459720"/>
          </a:xfrm>
          <a:prstGeom prst="rect">
            <a:avLst/>
          </a:prstGeom>
          <a:solidFill>
            <a:srgbClr val="e8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sides, 1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888200">
            <a:off x="2190240" y="2075040"/>
            <a:ext cx="2251080" cy="111888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92560" y="2511360"/>
            <a:ext cx="3426120" cy="1015920"/>
          </a:xfrm>
          <a:custGeom>
            <a:avLst/>
            <a:gdLst/>
            <a:ahLst/>
            <a:rect l="l" t="t" r="r" b="b"/>
            <a:pathLst>
              <a:path w="1755" h="640">
                <a:moveTo>
                  <a:pt x="969" y="0"/>
                </a:moveTo>
                <a:lnTo>
                  <a:pt x="0" y="530"/>
                </a:lnTo>
                <a:lnTo>
                  <a:pt x="1755" y="640"/>
                </a:lnTo>
                <a:lnTo>
                  <a:pt x="96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5240" y="2759040"/>
            <a:ext cx="33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3880" y="2932200"/>
            <a:ext cx="33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 right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381480" y="2192400"/>
            <a:ext cx="1046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192400"/>
            <a:ext cx="1812960" cy="47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03840"/>
            <a:ext cx="3483000" cy="550800"/>
          </a:xfrm>
          <a:prstGeom prst="rect">
            <a:avLst/>
          </a:prstGeom>
          <a:solidFill>
            <a:srgbClr val="e8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 O H C A H T O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56080" y="3875040"/>
            <a:ext cx="2046240" cy="825480"/>
          </a:xfrm>
          <a:prstGeom prst="rect">
            <a:avLst/>
          </a:prstGeom>
          <a:solidFill>
            <a:srgbClr val="fcd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ides and 1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260280" y="2190600"/>
            <a:ext cx="2394000" cy="1611360"/>
          </a:xfrm>
          <a:prstGeom prst="cloudCallout">
            <a:avLst>
              <a:gd name="adj1" fmla="val -7226"/>
              <a:gd name="adj2" fmla="val 53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ach case, only one thing can be mi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3902040"/>
            <a:ext cx="2046600" cy="825480"/>
          </a:xfrm>
          <a:prstGeom prst="rect">
            <a:avLst/>
          </a:prstGeom>
          <a:solidFill>
            <a:srgbClr val="a6b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, side-angle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9720" y="5324400"/>
            <a:ext cx="2381400" cy="1191240"/>
          </a:xfrm>
          <a:prstGeom prst="rect">
            <a:avLst/>
          </a:prstGeom>
          <a:solidFill>
            <a:srgbClr val="c6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pairs of angles and opposite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878080" y="3483000"/>
            <a:ext cx="6526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544800" y="3468600"/>
            <a:ext cx="203400" cy="174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53120" y="3483000"/>
            <a:ext cx="34956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120" y="5616720"/>
            <a:ext cx="1738440" cy="459720"/>
          </a:xfrm>
          <a:prstGeom prst="rect">
            <a:avLst/>
          </a:prstGeom>
          <a:solidFill>
            <a:srgbClr val="a1e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7040" y="6194520"/>
            <a:ext cx="1738440" cy="459720"/>
          </a:xfrm>
          <a:prstGeom prst="rect">
            <a:avLst/>
          </a:prstGeom>
          <a:solidFill>
            <a:srgbClr val="a1e7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YTH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16440" y="4788000"/>
            <a:ext cx="1436760" cy="459720"/>
          </a:xfrm>
          <a:prstGeom prst="rect">
            <a:avLst/>
          </a:prstGeom>
          <a:solidFill>
            <a:srgbClr val="fcd5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32640" y="4916520"/>
            <a:ext cx="1611360" cy="459720"/>
          </a:xfrm>
          <a:prstGeom prst="rect">
            <a:avLst/>
          </a:prstGeom>
          <a:solidFill>
            <a:srgbClr val="a6b0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32640" y="5987880"/>
            <a:ext cx="1611360" cy="459720"/>
          </a:xfrm>
          <a:prstGeom prst="rect">
            <a:avLst/>
          </a:prstGeom>
          <a:solidFill>
            <a:srgbClr val="c6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03040" y="3657600"/>
            <a:ext cx="52236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95440" y="3411360"/>
            <a:ext cx="827280" cy="22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H="1">
            <a:off x="684360" y="1628640"/>
            <a:ext cx="7416720" cy="4680000"/>
          </a:xfrm>
          <a:prstGeom prst="rtTriangle">
            <a:avLst/>
          </a:prstGeom>
          <a:solidFill>
            <a:srgbClr val="b0eed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rcRect l="32300" t="18583" r="38175" b="26417"/>
          <a:stretch/>
        </p:blipFill>
        <p:spPr>
          <a:xfrm>
            <a:off x="468360" y="5589720"/>
            <a:ext cx="51588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rcRect l="32300" t="18583" r="38175" b="26417"/>
          <a:stretch/>
        </p:blipFill>
        <p:spPr>
          <a:xfrm>
            <a:off x="2627280" y="5589720"/>
            <a:ext cx="515880" cy="720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rcRect l="27718" t="0" r="29262" b="0"/>
          <a:stretch/>
        </p:blipFill>
        <p:spPr>
          <a:xfrm>
            <a:off x="7020000" y="1628640"/>
            <a:ext cx="2124000" cy="4980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5640" y="652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652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623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4360" y="1628640"/>
            <a:ext cx="741672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43280" y="1628640"/>
            <a:ext cx="525780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5805360"/>
            <a:ext cx="360360" cy="432000"/>
          </a:xfrm>
          <a:custGeom>
            <a:avLst/>
            <a:gdLst/>
            <a:ahLst/>
            <a:rect l="l" t="t" r="r" b="b"/>
            <a:pathLst>
              <a:path w="227" h="272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5734080"/>
            <a:ext cx="432000" cy="574560"/>
          </a:xfrm>
          <a:custGeom>
            <a:avLst/>
            <a:gdLst/>
            <a:ahLst/>
            <a:rect l="l" t="t" r="r" b="b"/>
            <a:pathLst>
              <a:path w="272" h="362">
                <a:moveTo>
                  <a:pt x="0" y="0"/>
                </a:moveTo>
                <a:cubicBezTo>
                  <a:pt x="91" y="60"/>
                  <a:pt x="182" y="121"/>
                  <a:pt x="227" y="181"/>
                </a:cubicBezTo>
                <a:cubicBezTo>
                  <a:pt x="272" y="241"/>
                  <a:pt x="272" y="301"/>
                  <a:pt x="272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5589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771640" y="1628640"/>
            <a:ext cx="5329440" cy="4680000"/>
          </a:xfrm>
          <a:prstGeom prst="rtTriangle">
            <a:avLst/>
          </a:prstGeom>
          <a:solidFill>
            <a:srgbClr val="e8aaf4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48120" y="4122720"/>
            <a:ext cx="3765600" cy="2376360"/>
          </a:xfrm>
          <a:prstGeom prst="rtTriangle">
            <a:avLst/>
          </a:prstGeom>
          <a:solidFill>
            <a:srgbClr val="b0eed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rcRect l="32300" t="18583" r="38175" b="26417"/>
          <a:stretch/>
        </p:blipFill>
        <p:spPr>
          <a:xfrm>
            <a:off x="4738680" y="6134040"/>
            <a:ext cx="262080" cy="36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32300" t="18583" r="38175" b="26417"/>
          <a:stretch/>
        </p:blipFill>
        <p:spPr>
          <a:xfrm>
            <a:off x="5834160" y="6134040"/>
            <a:ext cx="26172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27718" t="0" r="29262" b="0"/>
          <a:stretch/>
        </p:blipFill>
        <p:spPr>
          <a:xfrm>
            <a:off x="8066160" y="4122720"/>
            <a:ext cx="1077840" cy="25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4500720" y="6499080"/>
            <a:ext cx="46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884840" y="660888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660888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76800" y="6462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48120" y="4122360"/>
            <a:ext cx="37656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43600" y="4122720"/>
            <a:ext cx="2670120" cy="23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86240" y="6243480"/>
            <a:ext cx="182520" cy="219240"/>
          </a:xfrm>
          <a:custGeom>
            <a:avLst/>
            <a:gdLst/>
            <a:ahLst/>
            <a:rect l="l" t="t" r="r" b="b"/>
            <a:pathLst>
              <a:path w="227" h="272">
                <a:moveTo>
                  <a:pt x="0" y="0"/>
                </a:moveTo>
                <a:cubicBezTo>
                  <a:pt x="71" y="23"/>
                  <a:pt x="143" y="46"/>
                  <a:pt x="181" y="91"/>
                </a:cubicBezTo>
                <a:cubicBezTo>
                  <a:pt x="219" y="136"/>
                  <a:pt x="223" y="204"/>
                  <a:pt x="227" y="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0640" y="6207120"/>
            <a:ext cx="219240" cy="291960"/>
          </a:xfrm>
          <a:custGeom>
            <a:avLst/>
            <a:gdLst/>
            <a:ahLst/>
            <a:rect l="l" t="t" r="r" b="b"/>
            <a:pathLst>
              <a:path w="272" h="362">
                <a:moveTo>
                  <a:pt x="0" y="0"/>
                </a:moveTo>
                <a:cubicBezTo>
                  <a:pt x="91" y="60"/>
                  <a:pt x="182" y="121"/>
                  <a:pt x="227" y="181"/>
                </a:cubicBezTo>
                <a:cubicBezTo>
                  <a:pt x="272" y="241"/>
                  <a:pt x="272" y="301"/>
                  <a:pt x="272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22960" y="613404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6800" y="6134040"/>
            <a:ext cx="60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66560" y="4122720"/>
            <a:ext cx="2705400" cy="2376360"/>
          </a:xfrm>
          <a:prstGeom prst="rtTriangle">
            <a:avLst/>
          </a:prstGeom>
          <a:solidFill>
            <a:srgbClr val="e8aaf4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48120" y="4122720"/>
            <a:ext cx="3765600" cy="2376360"/>
          </a:xfrm>
          <a:prstGeom prst="rtTriangle">
            <a:avLst/>
          </a:prstGeom>
          <a:solidFill>
            <a:srgbClr val="b0eed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866560" y="4122720"/>
            <a:ext cx="2705400" cy="2376360"/>
          </a:xfrm>
          <a:prstGeom prst="rtTriangle">
            <a:avLst/>
          </a:prstGeom>
          <a:solidFill>
            <a:srgbClr val="e8aaf4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12880"/>
            <a:ext cx="357840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DOWN WHAT YOU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02312E-006 L -0.50469 -0.35745 E">
                                      <p:cBhvr>
                                        <p:cTn id="9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9711E-006 L -0.17448 -0.42128 E">
                                      <p:cBhvr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r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Practise trigonometric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0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needed to make this lawn design. What angle do the lower fences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5760" y="3090960"/>
            <a:ext cx="4019400" cy="3193920"/>
          </a:xfrm>
          <a:custGeom>
            <a:avLst/>
            <a:gdLst/>
            <a:ahLst/>
            <a:rect l="l" t="t" r="r" b="b"/>
            <a:pathLst>
              <a:path w="2532" h="2012">
                <a:moveTo>
                  <a:pt x="0" y="1088"/>
                </a:moveTo>
                <a:cubicBezTo>
                  <a:pt x="30" y="1073"/>
                  <a:pt x="91" y="1043"/>
                  <a:pt x="91" y="1043"/>
                </a:cubicBezTo>
                <a:lnTo>
                  <a:pt x="2532" y="0"/>
                </a:lnTo>
                <a:lnTo>
                  <a:pt x="2240" y="2012"/>
                </a:lnTo>
                <a:lnTo>
                  <a:pt x="0" y="108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97320" y="554364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0720" y="337968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69120" y="455292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191200">
            <a:off x="2236680" y="4182840"/>
            <a:ext cx="2772000" cy="11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345200">
            <a:off x="2161800" y="5270040"/>
            <a:ext cx="2771640" cy="117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240160" y="4935600"/>
            <a:ext cx="121140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3:15:54Z</dcterms:created>
  <dc:creator>N Holden</dc:creator>
  <dc:description/>
  <dc:language>en-US</dc:language>
  <cp:lastModifiedBy>N Holden</cp:lastModifiedBy>
  <dcterms:modified xsi:type="dcterms:W3CDTF">2009-02-06T15:10:23Z</dcterms:modified>
  <cp:revision>5</cp:revision>
  <dc:subject/>
  <dc:title>L.O. Practise trigonometric techniques</dc:title>
</cp:coreProperties>
</file>